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shiphorn.wav" ContentType="audio/x-wav"/>
  <Override PartName="/ppt/media/bserie06.wav" ContentType="audio/x-wav"/>
  <Override PartName="/ppt/media/jetflyby2.wav" ContentType="audio/x-wav"/>
  <Override PartName="/ppt/media/meepmeep.wav" ContentType="audio/x-wav"/>
  <Override PartName="/ppt/media/image1.gif" ContentType="image/gif"/>
  <Override PartName="/ppt/media/highchime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23F-9D83-4B8C-A7CD-6AA6900F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D51-4B41-4222-A06F-56990056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C47-38BB-4113-9BAF-4BAEDB38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1B7-CA54-4DF3-A97B-62B1D2C4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863-861C-4F8A-B595-F3345ADB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4CB-25A4-4FA6-BCBB-7FECD410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484-5B9F-4AE4-8E40-18C8C7FF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2B4-5D16-49D1-A26A-77E1B163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D5B-1A97-4ACD-8DB9-D67C1BC1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EBC-681A-43D7-91FF-AD83B968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E95-4708-4BF1-BE92-B22C0202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74A-6B85-47C9-9934-37D3ED51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87E0-1259-45F4-9B5D-0557E24DF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meepmeep.wav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meepmeep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shiphorn.wav"/><Relationship Id="rId3" Type="http://schemas.openxmlformats.org/officeDocument/2006/relationships/audio" Target="../media/highchime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bserie06.wav"/><Relationship Id="rId8" Type="http://schemas.openxmlformats.org/officeDocument/2006/relationships/audio" Target="../media/zipdn102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ghchime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zipdn102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Use the calculator to evaluate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0" y="1427040"/>
                <a:ext cx="91440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60360" y="2075040"/>
                <a:ext cx="21049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417760" y="2063880"/>
                <a:ext cx="431640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12840" y="3349800"/>
                <a:ext cx="928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1284120" y="336708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841400" y="3330720"/>
                <a:ext cx="876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2668680" y="3373560"/>
            <a:ext cx="51732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255840" y="3324240"/>
                <a:ext cx="11876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4397400" y="337968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976640" y="3336840"/>
                <a:ext cx="825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7292880" y="339732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57840" y="338616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Lucida Sans Unicode"/>
                <a:ea typeface="Lucida Sans Unicode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315120" y="3349800"/>
                <a:ext cx="876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971800" y="4413240"/>
                <a:ext cx="16970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9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7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Use the calculator to evaluate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20840" y="1174680"/>
                <a:ext cx="688320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077840" y="2949480"/>
                <a:ext cx="136836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81120" y="3489480"/>
                <a:ext cx="13161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52320" y="5226120"/>
                <a:ext cx="12384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4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1893960" y="5268960"/>
            <a:ext cx="517320" cy="6732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451240" y="5232240"/>
                <a:ext cx="876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278160" y="527544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956040" y="5251320"/>
                <a:ext cx="774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754520" y="5254560"/>
            <a:ext cx="517680" cy="642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678640" y="5127480"/>
                <a:ext cx="118728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25640" y="5394240"/>
                <a:ext cx="4348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10400" y="73188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76200" y="5581800"/>
                <a:ext cx="2036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668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Use a Draw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352600" y="5591160"/>
                <a:ext cx="26560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975200" y="5608800"/>
                <a:ext cx="15829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203040" y="1262160"/>
            <a:ext cx="622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Tanya wants her fence to be 6 ft. wide and 10 ft. long. How much fencing does she need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2320" y="3236760"/>
            <a:ext cx="2787840" cy="1320840"/>
          </a:xfrm>
          <a:prstGeom prst="rect">
            <a:avLst/>
          </a:prstGeom>
          <a:solidFill>
            <a:srgbClr val="ffffff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506760" y="3521160"/>
                <a:ext cx="1168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335240" y="4559400"/>
                <a:ext cx="137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524640" y="5614920"/>
                <a:ext cx="8478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810400" y="73188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74560" y="5581800"/>
                <a:ext cx="16401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668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Use a Draw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289240" y="5591160"/>
                <a:ext cx="2260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641840" y="5594400"/>
                <a:ext cx="15829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03040" y="1262160"/>
            <a:ext cx="622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How much rope does Tonya need if she wants the garden 5 ft. wide and 8 ft. lo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2320" y="3236760"/>
            <a:ext cx="2787840" cy="1320840"/>
          </a:xfrm>
          <a:prstGeom prst="rect">
            <a:avLst/>
          </a:prstGeom>
          <a:solidFill>
            <a:srgbClr val="ffffff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527280" y="3521160"/>
                <a:ext cx="11271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460520" y="4559400"/>
                <a:ext cx="1125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191280" y="5600880"/>
                <a:ext cx="8478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810400" y="73188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57360" y="5597640"/>
                <a:ext cx="23176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0" y="668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Use a Draw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997360" y="5578560"/>
                <a:ext cx="29383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861160" y="5553000"/>
                <a:ext cx="15825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203040" y="1262160"/>
            <a:ext cx="622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How much rope does Tonya need if she makes the garden 10 ft. wide and 15 ft. lo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2320" y="3236760"/>
            <a:ext cx="2787840" cy="1320840"/>
          </a:xfrm>
          <a:prstGeom prst="rect">
            <a:avLst/>
          </a:prstGeom>
          <a:solidFill>
            <a:srgbClr val="ffffff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533760" y="3565440"/>
                <a:ext cx="1378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379520" y="4587840"/>
                <a:ext cx="137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5  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410600" y="5559480"/>
                <a:ext cx="847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0500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75, 3 – 7 #1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77, 3 – 8 #1-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25/2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9-21T15:21:28Z</dcterms:modified>
  <cp:revision>68</cp:revision>
  <dc:subject/>
  <dc:title>Slide 1</dc:title>
</cp:coreProperties>
</file>